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572-E7F7-4461-AF03-51EE2C50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204-F901-428B-8A37-65274AA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600-26FB-4BF9-BFD3-495AAEF6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42E-EF60-4AD8-B726-F7D3B8E3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457-B3DF-48C7-AE34-2723F26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FB8-D31D-4A7A-B154-90539BD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AE2-1B17-4975-91AD-2B9B3F06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C31-7F11-4117-BF7E-D73B860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DBD-61DF-47CF-A727-006F8AE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E57-EB5A-43AF-9374-D28D311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252-94B6-4D76-BB4F-CD60D70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91C-D29E-4F00-9B67-03F33F2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2F6-64E4-4F54-A553-835DD1C99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7;&#1072;&#1075;&#1072;&#1081;&#1085;&#1086;&#1074;,_&#1057;&#1090;&#1077;&#1087;&#1072;&#1085;_&#1058;&#1072;&#1088;&#1072;&#1089;&#1086;&#1074;&#1080;&#1095;" TargetMode="External"/><Relationship Id="rId3" Type="http://schemas.openxmlformats.org/officeDocument/2006/relationships/hyperlink" Target="https://www.kritika24.ru/page.php?id=5207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orec.ru/holiday/velikaya_otehestvennaya_voyna.php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714240" y="28584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85840" y="2000160"/>
            <a:ext cx="3214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2286000" y="785880"/>
            <a:ext cx="4572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истерство образования и науки  Алтайского кра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евое государственное бюджетное образовательное учреждение «Павловская общеобразовательная школа-интернат»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ый проект:</a:t>
            </a:r>
            <a:br>
              <a:rPr sz="20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«Никто не забыт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1214280" y="2714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ков Алексей, ученик 9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ндаренко А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русского язык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. Павловск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1143000" y="714240"/>
            <a:ext cx="5715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 меня будет информация о боевом пути и жизни в мирное время Героев Советского Союза  времён Великой Отечественной войны, проживавших на территории Павловского рай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Я познакомлю ребят с героями Великой Отечественной войны, нашими земляками, и с их подви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Я составлю текстовый отчёт по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Я разработаю компьютерную презентацию и представлю  её учащимся 5-9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1000080" y="92880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 провёл устный опрос среди учеников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ы знаешь о Великой Отечественной вой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огда началась Великая Отечественная вой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Когда она окончила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то победил в этой вой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Каких героев войны ты зн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285920" y="1143000"/>
            <a:ext cx="557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лось, что ребята не знают героев войны. Они не знают ни их имён, ни фамилий. Ни подвигов, которые они соверш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1071720" y="642960"/>
            <a:ext cx="5929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решил создать проект по данной теме и  поделился своей задумкой с ребятами. Мои одноклассники сказали, что тема интересная, они тоже хотят узнать всё о героях Великой Отечественной войны. После этого я приступил к работе над проектом. Я  изучил материалы в сети интернет и прочитал много литературы по этому вопросу. А также сходил в наш местный музей. Я нашёл нужную мне информацию и приступил к написанию текс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3429000" cy="4786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4857840" y="14288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резин Иван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Голубев, Сергей Васильевич.jpg"/>
          <p:cNvPicPr/>
          <p:nvPr/>
        </p:nvPicPr>
        <p:blipFill>
          <a:blip r:embed="rId2"/>
          <a:stretch/>
        </p:blipFill>
        <p:spPr>
          <a:xfrm>
            <a:off x="1214280" y="1143000"/>
            <a:ext cx="3071880" cy="45054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714920" y="150012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убев Сергей Васил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3" descr=""/>
          <p:cNvPicPr/>
          <p:nvPr/>
        </p:nvPicPr>
        <p:blipFill>
          <a:blip r:embed="rId2"/>
          <a:stretch/>
        </p:blipFill>
        <p:spPr>
          <a:xfrm>
            <a:off x="785880" y="1000080"/>
            <a:ext cx="3429000" cy="4786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4643280" y="1000080"/>
            <a:ext cx="32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гайнов Степан Тарас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Георгий Исаков.jpg"/>
          <p:cNvPicPr/>
          <p:nvPr/>
        </p:nvPicPr>
        <p:blipFill>
          <a:blip r:embed="rId2"/>
          <a:stretch/>
        </p:blipFill>
        <p:spPr>
          <a:xfrm>
            <a:off x="857160" y="928800"/>
            <a:ext cx="378612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5072040" y="107172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ков Георгий Семё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3" descr="http://moypolk.ru/sites/default/files/styles/soldier_photo/public/photos/soldat3827.jpg?itok=IBZElWvk"/>
          <p:cNvPicPr/>
          <p:nvPr/>
        </p:nvPicPr>
        <p:blipFill>
          <a:blip r:embed="rId2"/>
          <a:stretch/>
        </p:blipFill>
        <p:spPr>
          <a:xfrm>
            <a:off x="857160" y="1071720"/>
            <a:ext cx="3571920" cy="4786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4929120" y="142884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ев Борис Ива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3" descr="Николай Михайлович Малахов.jpg"/>
          <p:cNvPicPr/>
          <p:nvPr/>
        </p:nvPicPr>
        <p:blipFill>
          <a:blip r:embed="rId2"/>
          <a:stretch/>
        </p:blipFill>
        <p:spPr>
          <a:xfrm>
            <a:off x="857160" y="928800"/>
            <a:ext cx="3500640" cy="4714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4572000" y="14288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ахов Николай Михай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928800" y="1166760"/>
            <a:ext cx="59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ловека, который не знает своей истории и истории родной страны  нет будущего.Великая Отечественная война давно закончилась, но мы не должны о ней забывать. Меня восхищает то, что сделали для нашей страны, для нашей благополучной жизни наши предки. Многие из них так и не вернулись с войны. Мы должны всегда помнить о том подвиге, который совершили эти  люди. К сожалению не все  помнят войну, вошедшую в историю как "Великая Отечественная война". Почему важно помнить о той вой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3" descr=""/>
          <p:cNvPicPr/>
          <p:nvPr/>
        </p:nvPicPr>
        <p:blipFill>
          <a:blip r:embed="rId2"/>
          <a:stretch/>
        </p:blipFill>
        <p:spPr>
          <a:xfrm>
            <a:off x="714240" y="857160"/>
            <a:ext cx="3714840" cy="4786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4857840" y="142884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хайлов Поликарп Михай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Oshchepkov AndrIvan.jpg"/>
          <p:cNvPicPr/>
          <p:nvPr/>
        </p:nvPicPr>
        <p:blipFill>
          <a:blip r:embed="rId2"/>
          <a:stretch/>
        </p:blipFill>
        <p:spPr>
          <a:xfrm>
            <a:off x="928800" y="78588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5214960" y="1285920"/>
            <a:ext cx="271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щепков Андрей Ива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3" descr="Раевский Григорий Николаевич.jpg"/>
          <p:cNvPicPr/>
          <p:nvPr/>
        </p:nvPicPr>
        <p:blipFill>
          <a:blip r:embed="rId2"/>
          <a:stretch/>
        </p:blipFill>
        <p:spPr>
          <a:xfrm>
            <a:off x="1357200" y="928800"/>
            <a:ext cx="3214800" cy="4786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4857840" y="10717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евский Григорий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Николай Ефимович Симинихин.jpg"/>
          <p:cNvPicPr/>
          <p:nvPr/>
        </p:nvPicPr>
        <p:blipFill>
          <a:blip r:embed="rId2"/>
          <a:stretch/>
        </p:blipFill>
        <p:spPr>
          <a:xfrm>
            <a:off x="1143000" y="1071720"/>
            <a:ext cx="3286080" cy="485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4857840" y="107172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минихин Николай Ефим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2286000" y="1071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длагаю почтить память героев минутой молч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z_uk-metronom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82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1357200" y="1000080"/>
            <a:ext cx="55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ришёл  к выводу, что да, прошли десятилетия с тех пор, как отгремели последние залпы Великой Отечественной войны. Многое изменилось в жизни. Другим стал мир. Другие люди творят его историю. Но все мы должны помнить имена тех, кто прогнал врага с нашей родной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1071720" y="714240"/>
            <a:ext cx="5786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моего проекта прошла успешно. Я выполнил поставленные задачи и достиг желаемой цели. Научился находить нужную информацию. Научился понимать, что связь поколений нужна, чтобы мы - молодое поколение, знали, помнили, гордились своими предками-защитниками и героями войны. И могли рассказать об их подвигах своим сверстникам и детям.  Поэтому я и назвал мой проект : «Никто не забы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1071720" y="1000080"/>
            <a:ext cx="5786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в данном направлении  будет продолжаться и в дальнейшем. Я буду и дальше разрабатывать подобного рода проекты, для того, чтобы  дети могли знать свою историю, боль и лишения своего народа, его радости и поб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214280" y="157176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2286000" y="121428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ресу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евая слава Алтая. – 3-е изд., испр. и доп. – Барнаул, 1978. – С.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s://ru.wikipedia.org/wiki/Раевский,_Григорий_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u.wikipedia.org/wiki/Загайнов,_Степан_Тара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www.kritika24.ru/page.php?id=52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214280" y="928800"/>
            <a:ext cx="564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то не должен забывать всех ужасов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Ту цену, которые отдали сотни людей в этой борьбе. Забыть - это значит предать настоящее и прошлое. Наша задача сейчас- это помнить и чтить память тех людей, благодаря которым мы можем находиться зд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7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642960" y="228600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огие стали забывать о героях той страшной войны. Дети не знают имён этих людей. Тех, кто отдал свои жизни за то, чтобы мы жили в тепле, чтобы над нашими головами не рвались сна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000080" y="78588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2286000" y="100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Цель: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зучение информации о героях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214280" y="29671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 Герои Советского Союза Павловского района(участники  Великой Отечественной вой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357200" y="1000080"/>
            <a:ext cx="55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Найти  информацию о боевом пути и жизни в мирное время Героев Советского Союза  времён Великой Отечественной войны, проживавших на территории Павловского райо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Разработать текстовый отчёт по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Разработать компьютерную  презентацию  и  её представить учащимся 5-9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857160" y="714240"/>
            <a:ext cx="600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мы будем помнить героев войны, то их подвиг будет жить в веках. Мы,  молодое поколение России, всегда будем помнить героические подвиги нашего народа в годы Великой Отечественной Войны. Навечно останутся в наших сердцах имена героев, отдавших свою жизнь за наше будущее. День Победы – один из самых святых праздников для всех нас. Очень важно, чтобы молодые люди  представляли величие и значение этой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1285920" y="766800"/>
            <a:ext cx="564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пределение цели и задач социального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пределение содержания социального проекта. Составление плана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ение литературы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ведение плановых меропри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Анализ результатов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509b4593f3dadde700d465309155aaa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928800" y="14288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оки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 марта по 4 апреля 2019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z_uk-metronom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82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08:54:56Z</dcterms:created>
  <dc:creator>Алла</dc:creator>
  <dc:description/>
  <dc:language>en-US</dc:language>
  <cp:lastModifiedBy>Алла</cp:lastModifiedBy>
  <dcterms:modified xsi:type="dcterms:W3CDTF">2019-04-13T04:55:03Z</dcterms:modified>
  <cp:revision>5</cp:revision>
  <dc:subject/>
  <dc:title>Слайд 1</dc:title>
</cp:coreProperties>
</file>